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4D3-D30E-4B9E-B4DE-D557F352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38F-8EC2-4677-B047-6AC37198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9F8-A512-4085-9B62-DA78A409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208-B8C8-40F4-9A4F-F5F7F05D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9FD-2931-4F97-AED5-B3C2A46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DAE-FB41-4E94-96A8-F6385BE6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4F6-D23B-4CB2-9CFF-4B43AB5F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20F-EC0D-4FB9-BB7F-F32FD551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61C-7EEB-45A7-B3A7-208F7ED9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230-E008-4D33-86C0-9A21830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2D6-0310-46B5-98D6-471E15FB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279-1847-4608-810C-E74271B1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25E-F493-4FFE-8AB5-F8D607C1D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ASE-CONTRO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5638680"/>
            <a:ext cx="373356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5638680"/>
            <a:ext cx="32004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38680"/>
            <a:ext cx="304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990720"/>
            <a:ext cx="54864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4724280"/>
            <a:ext cx="12193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640080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3505320"/>
            <a:ext cx="5335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3000" y="5715000"/>
            <a:ext cx="6934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162920" cy="162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419720"/>
            <a:ext cx="2743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82880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8288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23Z</dcterms:modified>
  <cp:revision>108</cp:revision>
  <dc:subject/>
  <dc:title>The Art in the State of the Art</dc:title>
</cp:coreProperties>
</file>